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2.wmf" ContentType="image/x-wmf"/>
  <Override PartName="/ppt/media/image19.png" ContentType="image/png"/>
  <Override PartName="/ppt/media/image13.jpeg" ContentType="image/jpeg"/>
  <Override PartName="/ppt/media/image23.png" ContentType="image/png"/>
  <Override PartName="/ppt/media/arrow.wav" ContentType="audio/x-wav"/>
  <Override PartName="/ppt/media/image9.wmf" ContentType="image/x-wmf"/>
  <Override PartName="/ppt/media/image14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10.wmf" ContentType="image/x-wmf"/>
  <Override PartName="/ppt/media/coin.wav" ContentType="audio/x-wav"/>
  <Override PartName="/ppt/media/image11.png" ContentType="image/png"/>
  <Override PartName="/ppt/media/image26.png" ContentType="image/png"/>
  <Override PartName="/ppt/media/image3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7.wmf" ContentType="image/x-wmf"/>
  <Override PartName="/ppt/media/image12.png" ContentType="image/png"/>
  <Override PartName="/ppt/media/image6.jpeg" ContentType="image/jpeg"/>
  <Override PartName="/ppt/media/image1.jpeg" ContentType="image/jpeg"/>
  <Override PartName="/ppt/media/image15.wmf" ContentType="image/x-wmf"/>
  <Override PartName="/ppt/media/image16.jpeg" ContentType="image/jpeg"/>
  <Override PartName="/ppt/media/image17.png" ContentType="image/png"/>
  <Override PartName="/ppt/media/image27.png" ContentType="image/png"/>
  <Override PartName="/ppt/media/drumroll.wav" ContentType="audio/x-wav"/>
  <Override PartName="/ppt/media/image18.jpeg" ContentType="image/jpeg"/>
  <Override PartName="/ppt/media/camera.wav" ContentType="audio/x-wav"/>
  <Override PartName="/ppt/media/image21.jpeg" ContentType="image/jpeg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B7F2-60D7-47D4-807E-8F65E1BE7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D3DB-A621-4ED3-A01A-6249529D87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4D2E-6C60-45FD-8B84-B1EAE2F7B2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A6C6-E555-4C8E-8B10-5D06B7D019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ADEB-A6B0-41F9-9618-7BEF575A50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F5DF-4F83-42C4-8582-30D886197F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5D9A-5888-4B29-B0AD-8ACC12B854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718D-B394-4EA8-990E-A033D3DAE7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9A77-B90E-4D4B-B026-3054580A0B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751B-0647-4AC9-9FAC-062866C4C8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239C-216C-47FD-9BE0-E371D401CD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378C-AF40-4521-BA28-241C47AD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030F-E29F-46E5-B395-EC03E533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60D3-0DD2-46E0-8D78-F63E9D29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3E8E-57CD-452E-834D-30460A8B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8D320-6B9B-4514-B90C-CEC2F60EA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1D19C-E79C-4EC3-B754-100D5A62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7CDC8-8B51-45FD-9256-4B29F664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F52B1-11C9-4D21-9B51-19E84C79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2731B-72B6-43D0-B0C9-6134A2D5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21B13-982D-406B-8EFA-E9AAFFAB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D82B5-8453-4F9F-9E4E-995D3BCE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F3CF-86D7-4368-91F0-A56F4411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7CBD6-A09F-44D8-AF0E-C8F3AFAC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5EABB-9C44-4242-BDEB-1F81F917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6D9EC-8B51-4F45-B0EE-952A0CC6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DC843-D6ED-4FD7-891A-7834FF50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38A5E-2BCF-484E-A3B9-93965C8F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3A7AD-1002-4804-ADE5-F0351FF9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04326-57B3-4D5E-90F1-4052BC87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B9CAC-3B78-466C-A78B-8AEAE64B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B7566-AC59-4D79-9018-920FC71A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7FA83-96BA-4EE0-AA3F-C31799DB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848B-E988-4A63-8F7B-9B7BC0B5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8D7E6-E329-4F83-8672-3C689B47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97C1C-C45F-46BA-9B1E-E9DE1A07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A7A31-42C5-492A-91F0-80D9A0EF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13CCA-6E0F-4CD4-A369-F903592C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5F67D-4343-4886-BDC2-F53AA3E8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1513C-3F8F-4B96-846F-61456C64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3C68A-D958-42F4-8B9D-023A8FF2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197897-7707-41F9-927F-1F307B26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E5F055-4042-40E1-B243-76D64747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0588FB-A351-424B-8989-697D7320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8280-DB08-4F33-A21D-AACE9C97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C2F6FE-441F-4380-B629-A9537421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58E3CB-7659-4C0F-83F2-F792EB89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DB962D-8558-4632-BBE4-09DFBBB2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9595B8-8A23-457A-934E-A095749D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DE826A-F95D-4FAD-8C2F-6B22C8A1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5E0FE1-2A82-4B2F-B517-A11D8AD8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464677-36AB-48F1-A6EA-6D9C9A4E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2E206B-3F02-4D29-A62E-CDD20E9F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192137-90B6-4FD9-A577-34B20611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B33E83-670C-488A-AF6E-A9FA88FF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0EC4-52C0-49FC-8678-C5334551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8E755D-13C6-4F14-B503-3D7A141D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60B1CE-6CEB-4D7D-AC21-CA1BCEBD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8DAA9D-4E77-4DC4-992D-A5263D1E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D1B792-006F-4DD9-9A68-215DBFDE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EE6415-8713-4401-9971-6E09D26A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56B0B3-2203-49AC-ACDE-5F545FFF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1C0749-D82E-4A88-91C0-10EBF6A2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781797-93A7-47EE-91C7-5FE72BDC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15C6FC-5B82-410C-BCB0-595BA72E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F1EF11-6ABA-40F0-A6B3-84739A6C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A795-2B2F-4879-9702-A6A8ED4D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84166D-D9CC-4830-B848-094CD7CA9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E28EFF-3C7D-4FD1-BC0F-0E4981DE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A675B8-6DA0-42CA-9C96-D93CE114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61099F-CBF6-4AF6-83CA-F763FCCD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86A8B3-B520-459C-AD3F-0BD67D84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1D20AB-8CAB-4CCC-A016-8B570511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C6C5D8-806C-4577-8577-79C76F9A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75CB83-4AE3-4324-9D7E-A2880313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633720-3351-411E-95A7-051892E4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B8D2B7-DDDE-4C18-BBF8-090DAD2D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7156-EA3F-43DA-9733-8CC72274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E00AD5-E127-47C7-8F47-CC9B4863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E91919-64FA-49EE-A887-ED903275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9B05D3-8DFF-4467-8610-574BD8ED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F47A8-EEA0-44A0-850C-C98EE084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CB658-813C-4FD4-A13E-353748C3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8B6D7-61C4-415E-BED3-DCE7D0C0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7A260-C051-4199-9088-5D0FA388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DF9A0-B554-40CE-94B7-AD920F83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248E8-CFB9-456F-B337-8142F519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6D74C-94B8-41AA-A116-18EBF61B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3A67-7646-4C84-9201-A6A1DB0A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94965-6A37-428B-A238-17205C27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C56C9-CD59-4AD6-8D50-05206F6C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8F450-7630-4B8A-97D2-40024175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6E48D-CEF2-490C-A751-0385B7E21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14F9C-D83C-4B47-BAF6-A7A618CD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A3F3D-BFF2-45DA-9D55-9EBF9D27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ACCEE-F561-465C-A2D7-EAED060A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126DA-68AD-4FC5-A6AC-C3653718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39F14-A575-41EE-A423-D7A3367B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01264-F1AA-4E9A-960B-F198CBB5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C6CA-7FD8-46BF-84E6-66C528C6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2666A-C444-49B4-BF1F-B03CF9A1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4EA75-0DA4-40AA-988B-F3B10669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ED15A-5DFA-4D51-B5EA-5C560E23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94F8A-7B35-41B3-A2E4-C6DC30FF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B8E8A-E205-49AB-94E2-9F9F3FE3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4560C-6632-46F9-B172-6871109C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7CC80-BBCD-44E6-91D4-D0204A7E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2346-22C0-47DC-A2EB-5CFE232A6A85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3C12-4A0F-4755-9DA9-8142C68A873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7FA7-24C8-444A-946E-D1DB516D7085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CF27-5074-4A5D-BCE8-906087E563FC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337F-8609-41E1-B75C-36DFA5352FA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FB15-1062-4495-8302-3B5BE1DAE056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1F46-433A-4CF7-B782-DA83917FCC0C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FFD9-16AF-4833-B155-79A4A50E891C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jpe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History 112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566640" y="2279520"/>
            <a:ext cx="801072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arrow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"/>
          <p:cNvPicPr/>
          <p:nvPr/>
        </p:nvPicPr>
        <p:blipFill>
          <a:blip r:embed="rId1"/>
          <a:stretch/>
        </p:blipFill>
        <p:spPr>
          <a:xfrm>
            <a:off x="3352680" y="2139840"/>
            <a:ext cx="2438640" cy="3340080"/>
          </a:xfrm>
          <a:prstGeom prst="rect">
            <a:avLst/>
          </a:prstGeom>
          <a:ln w="0">
            <a:noFill/>
          </a:ln>
        </p:spPr>
      </p:pic>
      <p:pic>
        <p:nvPicPr>
          <p:cNvPr id="369" name="Rectang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http://data2.collectionscanada.gc.ca/misc/txt/23v886k.jpg"/>
          <p:cNvPicPr/>
          <p:nvPr/>
        </p:nvPicPr>
        <p:blipFill>
          <a:blip r:embed="rId4"/>
          <a:stretch/>
        </p:blipFill>
        <p:spPr>
          <a:xfrm>
            <a:off x="0" y="-93600"/>
            <a:ext cx="914400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0" descr="http://upload.wikimedia.org/wikipedia/commons/8/80/Signature_of_Elizabeth_II.png"/>
          <p:cNvPicPr/>
          <p:nvPr/>
        </p:nvPicPr>
        <p:blipFill>
          <a:blip r:embed="rId1"/>
          <a:stretch/>
        </p:blipFill>
        <p:spPr>
          <a:xfrm>
            <a:off x="457200" y="1725480"/>
            <a:ext cx="8229600" cy="4168800"/>
          </a:xfrm>
          <a:prstGeom prst="rect">
            <a:avLst/>
          </a:prstGeom>
          <a:ln w="0">
            <a:noFill/>
          </a:ln>
        </p:spPr>
      </p:pic>
      <p:pic>
        <p:nvPicPr>
          <p:cNvPr id="373" name="Rectang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5104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does Sovereign mean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o should be Sovereign?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does it say about us that we are a constitutional monarchy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y do we persist with medieval symbols on our coins?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Rectangle 2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016840" cy="11588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5" descr="http://lefteyeonthemedia.files.wordpress.com/2008/10/sun-king.jpg"/>
          <p:cNvPicPr/>
          <p:nvPr/>
        </p:nvPicPr>
        <p:blipFill>
          <a:blip r:embed="rId2"/>
          <a:stretch/>
        </p:blipFill>
        <p:spPr>
          <a:xfrm>
            <a:off x="0" y="1905120"/>
            <a:ext cx="4633920" cy="426708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Head of Stat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Head of Governmen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onstitu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wipe dir="r"/>
    <p:sndAc>
      <p:stSnd>
        <p:snd r:embed="rId3" name="arrow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016840" cy="11588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Do you see anything on common with these coins?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Elizabeth II, 1967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Edward III, 1327-61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8" name="Picture 9" descr="http://image.ohozaa.com/im/c16_resize.jpg"/>
          <p:cNvPicPr/>
          <p:nvPr/>
        </p:nvPicPr>
        <p:blipFill>
          <a:blip r:embed="rId2"/>
          <a:stretch/>
        </p:blipFill>
        <p:spPr>
          <a:xfrm>
            <a:off x="4572000" y="2743200"/>
            <a:ext cx="3809880" cy="1881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"/>
          <p:cNvPicPr/>
          <p:nvPr/>
        </p:nvPicPr>
        <p:blipFill>
          <a:blip r:embed="rId3"/>
          <a:stretch/>
        </p:blipFill>
        <p:spPr>
          <a:xfrm>
            <a:off x="5105520" y="5105520"/>
            <a:ext cx="3174840" cy="1574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1" descr="http://www.ukcoinpics.co.uk/hamm/ed3/4d/713.jpg"/>
          <p:cNvPicPr/>
          <p:nvPr/>
        </p:nvPicPr>
        <p:blipFill>
          <a:blip r:embed="rId4"/>
          <a:stretch/>
        </p:blipFill>
        <p:spPr>
          <a:xfrm>
            <a:off x="4724280" y="4648320"/>
            <a:ext cx="3457800" cy="1706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0" y="533520"/>
            <a:ext cx="9524880" cy="44323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7" descr="http://www.ukcoinpics.co.uk/hamm/ed3/4d/713.jpg"/>
          <p:cNvPicPr/>
          <p:nvPr/>
        </p:nvPicPr>
        <p:blipFill>
          <a:blip r:embed="rId2"/>
          <a:stretch/>
        </p:blipFill>
        <p:spPr>
          <a:xfrm>
            <a:off x="-60480" y="533520"/>
            <a:ext cx="9204480" cy="454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3" name="coin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471168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3"/>
          <p:cNvSpPr/>
          <p:nvPr/>
        </p:nvSpPr>
        <p:spPr>
          <a:xfrm>
            <a:off x="457200" y="533412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izabeth I, 156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IZABETH : D.' G.' ANG.' FR.' ET . HI.' REG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VI-DEV . AD_IVTORE_M : ME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5" descr="http://www.spink.com/images/collectables/collectcoins/7.gif"/>
          <p:cNvPicPr/>
          <p:nvPr/>
        </p:nvPicPr>
        <p:blipFill>
          <a:blip r:embed="rId2"/>
          <a:stretch/>
        </p:blipFill>
        <p:spPr>
          <a:xfrm>
            <a:off x="0" y="62856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3" name="coi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your desk groups, try to figure out what the slogan on the coins mea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10" descr="http://faculty.ucc.edu/egh-damerow/Louis_XIV.jpg"/>
          <p:cNvPicPr/>
          <p:nvPr/>
        </p:nvPicPr>
        <p:blipFill>
          <a:blip r:embed="rId1"/>
          <a:stretch/>
        </p:blipFill>
        <p:spPr>
          <a:xfrm>
            <a:off x="0" y="1468440"/>
            <a:ext cx="3352680" cy="5389560"/>
          </a:xfrm>
          <a:prstGeom prst="rect">
            <a:avLst/>
          </a:prstGeom>
          <a:ln w="0">
            <a:noFill/>
          </a:ln>
        </p:spPr>
      </p:pic>
      <p:pic>
        <p:nvPicPr>
          <p:cNvPr id="359" name="Rectang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3"/>
          <a:stretch/>
        </p:blipFill>
        <p:spPr>
          <a:xfrm>
            <a:off x="4495680" y="1447920"/>
            <a:ext cx="4648320" cy="23414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2" descr="http://upload.wikimedia.org/wikipedia/commons/3/30/Louis_XIV_Coin.jpg"/>
          <p:cNvPicPr/>
          <p:nvPr/>
        </p:nvPicPr>
        <p:blipFill>
          <a:blip r:embed="rId4"/>
          <a:stretch/>
        </p:blipFill>
        <p:spPr>
          <a:xfrm>
            <a:off x="3581280" y="1600200"/>
            <a:ext cx="5173920" cy="26146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4" descr="http://upload.wikimedia.org/wikipedia/commons/3/39/Louis_XIV_Signature.png"/>
          <p:cNvPicPr/>
          <p:nvPr/>
        </p:nvPicPr>
        <p:blipFill>
          <a:blip r:embed="rId5"/>
          <a:stretch/>
        </p:blipFill>
        <p:spPr>
          <a:xfrm>
            <a:off x="4343400" y="4389480"/>
            <a:ext cx="3728880" cy="2468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6" name="drumrol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7" descr="http://www.artunframed.com/images/new_art4/Louis_XIV_and_Moliere.jpg"/>
          <p:cNvPicPr/>
          <p:nvPr/>
        </p:nvPicPr>
        <p:blipFill>
          <a:blip r:embed="rId1"/>
          <a:stretch/>
        </p:blipFill>
        <p:spPr>
          <a:xfrm>
            <a:off x="457200" y="1398600"/>
            <a:ext cx="8229600" cy="4822920"/>
          </a:xfrm>
          <a:prstGeom prst="rect">
            <a:avLst/>
          </a:prstGeom>
          <a:ln w="0">
            <a:noFill/>
          </a:ln>
        </p:spPr>
      </p:pic>
      <p:pic>
        <p:nvPicPr>
          <p:cNvPr id="364" name="Rectangle 2" descr=""/>
          <p:cNvPicPr/>
          <p:nvPr/>
        </p:nvPicPr>
        <p:blipFill>
          <a:blip r:embed="rId2"/>
          <a:stretch/>
        </p:blipFill>
        <p:spPr>
          <a:xfrm>
            <a:off x="237960" y="146160"/>
            <a:ext cx="845532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366" name="TextBox 6"/>
          <p:cNvSpPr/>
          <p:nvPr/>
        </p:nvSpPr>
        <p:spPr>
          <a:xfrm>
            <a:off x="5562720" y="205740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do you see in this imag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8" descr="http://www.executedtoday.com/images/Hobbes_Leviathan_big.jpg"/>
          <p:cNvPicPr/>
          <p:nvPr/>
        </p:nvPicPr>
        <p:blipFill>
          <a:blip r:embed="rId2"/>
          <a:stretch/>
        </p:blipFill>
        <p:spPr>
          <a:xfrm>
            <a:off x="304920" y="1371600"/>
            <a:ext cx="5240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00:03:26Z</dcterms:created>
  <dc:creator>Greg Peters</dc:creator>
  <dc:description/>
  <dc:language>en-US</dc:language>
  <cp:lastModifiedBy>ED18</cp:lastModifiedBy>
  <dcterms:modified xsi:type="dcterms:W3CDTF">2010-09-13T11:56:55Z</dcterms:modified>
  <cp:revision>6</cp:revision>
  <dc:subject/>
  <dc:title>Absolutism and Government</dc:title>
</cp:coreProperties>
</file>